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1.png" ContentType="image/png"/>
  <Override PartName="/ppt/media/image30.jpeg" ContentType="image/jpeg"/>
  <Override PartName="/ppt/media/CHIMES.WAV" ContentType="audio/x-wav"/>
  <Override PartName="/ppt/media/image3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FFE-2CD9-4918-9D9E-6C3B5ADFAA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EF6-C530-45D7-965F-B84519531E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BA1-DDA1-47D3-9A63-9F15AB8F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A12-A623-444E-8BB4-9F7EE8FA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547-1385-4D06-9CB7-E78C6D82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DE9-0B13-422B-9232-C69B5A58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E2D-8BCB-4052-9B0A-F79F83F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A86-8689-4926-8E93-F2744845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299-7E6A-4B90-B586-EA17828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EAA-F347-4D2D-B5E7-204E868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8DC-E52D-44B1-95B4-E31002A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E9D-9BFC-4A85-A7F2-B586D72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C11-EF28-476A-B8A4-E8C4684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473-D3D0-4B33-BB34-9DEBBB3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829-E591-4B63-9E23-C1DE85081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课题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化学是一门以实验为基础的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45440" cy="4295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565440" y="616572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上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84720" y="5589720"/>
            <a:ext cx="287640" cy="28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807-8D85-4C18-9A42-CECB7BF98B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alphaModFix amt="42000"/>
          </a:blip>
          <a:stretch/>
        </p:blipFill>
        <p:spPr>
          <a:xfrm>
            <a:off x="6659640" y="765000"/>
            <a:ext cx="194940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981000"/>
            <a:ext cx="460836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有白烟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白烟被点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1640" y="18255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白烟是什么物质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3527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石蜡的小颗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221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燃着的火柴去点“白烟”，如果蜡烛没有被点燃，可能有哪些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661000"/>
            <a:ext cx="81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白烟的浓度小，（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风将白烟吹散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04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燃着的火柴去点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烟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240-3B10-46B4-9DD8-F409002685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46280" y="365040"/>
            <a:ext cx="74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你会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检验产物中水蒸气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检验气体二氧化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00280"/>
            <a:ext cx="8076960" cy="119124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在火焰的上方罩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干冷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烧杯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如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烧杯内壁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水珠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，则生成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960" y="4222800"/>
            <a:ext cx="8136000" cy="119124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在火焰上方罩一个涂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澄清石灰水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的烧杯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如果澄清的石灰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变浑浊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烧杯内壁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色斑点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则生成二氧化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853-5B17-4675-8D9F-017D6FE08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0080" y="66600"/>
            <a:ext cx="8826480" cy="66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-20520" y="127080"/>
            <a:ext cx="9921600" cy="6959160"/>
            <a:chOff x="-20520" y="127080"/>
            <a:chExt cx="9921600" cy="6959160"/>
          </a:xfrm>
        </p:grpSpPr>
        <p:sp>
          <p:nvSpPr>
            <p:cNvPr id="135" name=""/>
            <p:cNvSpPr/>
            <p:nvPr/>
          </p:nvSpPr>
          <p:spPr>
            <a:xfrm>
              <a:off x="-20520" y="1823760"/>
              <a:ext cx="963288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蜡烛燃烧发出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色的火焰，放热、发光，蜡烛逐渐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短，受热时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冷却后又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②木条处于外焰的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最先变黑，外焰温度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629640"/>
              <a:ext cx="9456840" cy="12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⑴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蜡烛通常为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色的固体，硬度较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密度比水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于水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2640" y="3225960"/>
              <a:ext cx="9388440" cy="22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烧杯内壁有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出现，说明蜡烛燃烧生成了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蜡烛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烧后还生成能使澄清石灰水变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气体，说明蜡烛燃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生成了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4432680"/>
              <a:ext cx="95774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蜡烛燃烧的文字表达式是  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一股白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能重新燃烧。说明蜡烛燃烧是蜡烛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化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蜡烛蒸气被点燃，白烟是石蜡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凝结成的石蜡固体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000" y="127080"/>
              <a:ext cx="1989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温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199080"/>
              <a:ext cx="60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对蜡烛及其燃烧的探究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701880" y="2870280"/>
            <a:ext cx="1230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3433680"/>
            <a:ext cx="1727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54680" y="3440160"/>
            <a:ext cx="113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74800" y="4443480"/>
            <a:ext cx="2565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1600" y="843120"/>
            <a:ext cx="113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6240" y="836640"/>
            <a:ext cx="1203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83160" y="3949560"/>
            <a:ext cx="1573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浑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39760" y="843120"/>
            <a:ext cx="1019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26120" y="853920"/>
            <a:ext cx="114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8520" y="1846440"/>
            <a:ext cx="1152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6720" y="2389320"/>
            <a:ext cx="167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熔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67160" y="2373480"/>
            <a:ext cx="1766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凝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4880" y="5519880"/>
            <a:ext cx="1257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04120" y="5497560"/>
            <a:ext cx="1271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03920" y="5994360"/>
            <a:ext cx="1684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138560" y="5008680"/>
            <a:ext cx="5429160" cy="441360"/>
            <a:chOff x="4138560" y="5008680"/>
            <a:chExt cx="5429160" cy="441360"/>
          </a:xfrm>
        </p:grpSpPr>
        <p:sp>
          <p:nvSpPr>
            <p:cNvPr id="157" name=""/>
            <p:cNvSpPr/>
            <p:nvPr/>
          </p:nvSpPr>
          <p:spPr>
            <a:xfrm>
              <a:off x="4138560" y="5053320"/>
              <a:ext cx="5429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蜡烛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氧气           二氧化碳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43520" y="5008680"/>
              <a:ext cx="7380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点燃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00400" y="5292720"/>
              <a:ext cx="6051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47B-DCAD-4F09-B75D-B336BEE0E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333360"/>
            <a:ext cx="85694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学学习的三大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特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注物质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物理性质、化学性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注物质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物理变化、化学变化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注物质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过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其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对实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获得有价值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092-943A-4EA8-983F-B0844305E3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53708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920" y="813240"/>
            <a:ext cx="46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练习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几位同学对蜡烛火焰的焰心进行了探究，请你完成其中的一些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点燃蜡烛，将一根小木条迅速平放入火焰中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取出，现象如右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证明焰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31104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63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向焰心斜向插入一根细短玻璃管，发现玻璃管中无明显现象（如右上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在玻璃管的上口点燃，上口产生火焰，这说明焰心物质的性质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0720" y="328032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温度最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3800" y="5588640"/>
            <a:ext cx="37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气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可燃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A49-CA88-47DF-B372-F120BEF3A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7320" y="155520"/>
            <a:ext cx="8740440" cy="64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52360" y="558360"/>
            <a:ext cx="99378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有关蜡烛燃烧的叙述错误的是（      ）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．可观察到蜡烛燃烧产生明亮的火焰，火焰分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Ｂ．蜡烛熔化产生“烛泪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Ｃ．在蜡烛火焰上方罩一个干燥的烧杯，烧杯内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层水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Ｄ．用燃着的火柴去点燃蜡烛刚熄灭时的白烟，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烛不能被点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080" y="237960"/>
            <a:ext cx="2249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练习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0303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446-390D-4602-AE6D-A6707B76D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360" y="189000"/>
            <a:ext cx="8964720" cy="63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5760" y="139320"/>
            <a:ext cx="9858240" cy="7318800"/>
            <a:chOff x="185760" y="139320"/>
            <a:chExt cx="9858240" cy="7318800"/>
          </a:xfrm>
        </p:grpSpPr>
        <p:sp>
          <p:nvSpPr>
            <p:cNvPr id="173" name=""/>
            <p:cNvSpPr/>
            <p:nvPr/>
          </p:nvSpPr>
          <p:spPr>
            <a:xfrm>
              <a:off x="185760" y="139320"/>
              <a:ext cx="9858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在对蜡烛及其燃烧进行了探究以后，请你填写下列空格：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取一支蜡烛，用小刀切下一小块，把它放入水中，蜡烛会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浮在水面上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结论：石蜡的密度比水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960" y="1436760"/>
              <a:ext cx="8906040" cy="316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点燃蜡烛，观察到蜡烛的火焰分为三层，分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　   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把一根火柴梗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蜡烛的火焰上（如右图），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S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取出，可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看到在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处（填字母）的火柴梗的最先碳化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结论：蜡烛火焰的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度最高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1960" y="4292640"/>
              <a:ext cx="919476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3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再将一只干燥的烧杯罩在蜡烛火焰上方，烧杯内壁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现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片刻后取下烧杯，迅速向烧杯内倒入少量澄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石灰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振荡后发现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结论：蜡烛燃烧以后的生成物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7667640" y="1268280"/>
          <a:ext cx="1003320" cy="25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1268280"/>
                    <a:ext cx="100332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227640" y="12654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220500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66960" y="2211480"/>
            <a:ext cx="151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内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222640"/>
            <a:ext cx="1417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焰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3284640"/>
            <a:ext cx="100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6920" y="3751200"/>
            <a:ext cx="158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80960" y="4821120"/>
            <a:ext cx="1606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357880"/>
            <a:ext cx="410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澄清石灰水变浑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873760"/>
            <a:ext cx="32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和二氧化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CC3-197D-4D49-820D-4929E272D1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33200"/>
            <a:ext cx="878508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-371880"/>
            <a:ext cx="8945640" cy="72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活动与探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观察蜡烛的燃烧，得出下列结论。请回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是不需要燃烧就能观察到的现象（填字母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是需要燃烧才能观察到的现象（填字母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ａ．自顶端起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内的烛体是温的、柔软且易塑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ｂ．原料是半透明、无味白色固体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ｃ．蜡烛顶端、烛心底部周围有无色液体，呈碗状存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ｄ．一白色烛芯贯穿中轴，并延长至蜡烛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ｅ．形状圆柱形，顶部为圆锥形尖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ｆ．烛心周围和烛焰上端呈明亮的黄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ｇ．吹熄后，能看见烛心周围有白烟上升，并慢慢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ｈ．质软，可用指甲刮出痕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ｉ．若风吹至蜡烛一边；另一边碗形顶端的蜡烛将熔成液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沿烛体落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ｊ．如受空气流的影响，火焰会闪动，且生出黑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此之外，燃烧时你还观察到的现象有（写两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8280" y="9810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d 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000" y="141300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 f g I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800" y="20494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790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1734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8640" y="4248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76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火焰分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71840" y="604368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层火焰最明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081-3286-459E-B413-609320F36C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2708280"/>
            <a:ext cx="6696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探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人体吸入的空气和呼出的气体的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52200" y="191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418-DEB0-498C-A6A5-7053DDDDB6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52280"/>
            <a:ext cx="8839440" cy="60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440" y="326880"/>
            <a:ext cx="1366560" cy="738360"/>
          </a:xfrm>
          <a:custGeom>
            <a:avLst/>
            <a:gdLst>
              <a:gd name="textAreaLeft" fmla="*/ 0 w 1366560"/>
              <a:gd name="textAreaRight" fmla="*/ 1366920 w 1366560"/>
              <a:gd name="textAreaTop" fmla="*/ 95760 h 738360"/>
              <a:gd name="textAreaBottom" fmla="*/ 642960 h 73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提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2560" y="4176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吸入的空气和呼出的气体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501920"/>
            <a:ext cx="1498680" cy="838080"/>
          </a:xfrm>
          <a:custGeom>
            <a:avLst/>
            <a:gdLst>
              <a:gd name="textAreaLeft" fmla="*/ 0 w 1498680"/>
              <a:gd name="textAreaRight" fmla="*/ 1499040 w 14986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作出猜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1469880"/>
            <a:ext cx="214560" cy="981360"/>
          </a:xfrm>
          <a:custGeom>
            <a:avLst/>
            <a:gdLst>
              <a:gd name="textAreaLeft" fmla="*/ 137160 w 214560"/>
              <a:gd name="textAreaRight" fmla="*/ 214920 w 214560"/>
              <a:gd name="textAreaTop" fmla="*/ 25560 h 981360"/>
              <a:gd name="textAreaBottom" fmla="*/ 955800 h 98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44880" y="1219320"/>
            <a:ext cx="7611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呼出的气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二氧化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氧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水蒸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2840040"/>
            <a:ext cx="1400040" cy="1301760"/>
          </a:xfrm>
          <a:custGeom>
            <a:avLst/>
            <a:gdLst>
              <a:gd name="textAreaLeft" fmla="*/ 0 w 1400040"/>
              <a:gd name="textAreaRight" fmla="*/ 1400040 w 1400040"/>
              <a:gd name="textAreaTop" fmla="*/ 168480 h 1301760"/>
              <a:gd name="textAreaBottom" fmla="*/ 113328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实验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1320" y="3043080"/>
            <a:ext cx="189000" cy="982800"/>
          </a:xfrm>
          <a:custGeom>
            <a:avLst/>
            <a:gdLst>
              <a:gd name="textAreaLeft" fmla="*/ 120960 w 189000"/>
              <a:gd name="textAreaRight" fmla="*/ 189360 w 1890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2814480"/>
            <a:ext cx="7910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收集一瓶呼出的气体，用澄清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石灰水检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收集一瓶呼出的气体，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燃着的小木条检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着干燥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玻璃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734000"/>
            <a:ext cx="1366560" cy="708120"/>
          </a:xfrm>
          <a:custGeom>
            <a:avLst/>
            <a:gdLst>
              <a:gd name="textAreaLeft" fmla="*/ 0 w 1366560"/>
              <a:gd name="textAreaRight" fmla="*/ 1366920 w 1366560"/>
              <a:gd name="textAreaTop" fmla="*/ 91800 h 708120"/>
              <a:gd name="textAreaBottom" fmla="*/ 616320 h 708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现象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87720" y="4390920"/>
            <a:ext cx="72784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呼出的气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二氧化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氧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水蒸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0000" y="4594320"/>
            <a:ext cx="142920" cy="1066680"/>
          </a:xfrm>
          <a:custGeom>
            <a:avLst/>
            <a:gdLst>
              <a:gd name="textAreaLeft" fmla="*/ 91440 w 142920"/>
              <a:gd name="textAreaRight" fmla="*/ 143280 w 142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F76-BC1B-4FF0-A19F-A576AF16C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63680"/>
            <a:ext cx="8299440" cy="106884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化学是一门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以实验为基础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科学，化学的许多重大发现和研究成果都是通过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实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得到的。由此可见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实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在化学学习过程中的非常重要：学好了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化学实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就为我们学好整个化学打下坚实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789360"/>
            <a:ext cx="8424720" cy="5205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现在的化学实验室的前身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炼丹术士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炼金术士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作坊。通过炼丹和炼金，发明了许多化学实验仪器、积累了大量的化学知识、发明了一些用于合成和分离物质的有效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8A6-8F47-45D6-A3B4-CD278EB2DE30}" type="slidenum">
              <a:t>2</a:t>
            </a:fld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排水集气法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集气瓶装满水，用玻璃片盖住瓶口的一部分，然后推动玻璃片，将瓶口全部盖住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注意不能留有气泡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把盛满水的瓶子连同玻璃片一起倒立在水槽中。将饮管小心插入集气瓶内，向集气瓶缓缓吹气，直到集气瓶内充满呼出的气体。在水下用玻璃片将集气瓶的瓶口盖好，然后取出集气瓶放在桌上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9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61976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4BC-4EE3-42BE-9663-C5540295D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000" y="3933720"/>
            <a:ext cx="8061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氧化碳可以使澄清石灰水变成白色浑浊，下述实验中石灰水越浑浊，说明气体中二氧化碳越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060640"/>
            <a:ext cx="80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氧气可使带火星木条复燃，如果木条燃烧越旺，说明氧气越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141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氧化碳可以使燃着的木条熄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1937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中含有氮气、氧气、二氧化碳、 水蒸气等物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36360" y="0"/>
            <a:ext cx="16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有关信息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229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氮气、稀有气体性质较稳定。一般不与其它物质发生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A0E-EBCA-4B69-A2FF-D10BD604FC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04920" y="189000"/>
          <a:ext cx="8537400" cy="6264360"/>
        </p:xfrm>
        <a:graphic>
          <a:graphicData uri="http://schemas.openxmlformats.org/drawingml/2006/table">
            <a:tbl>
              <a:tblPr/>
              <a:tblGrid>
                <a:gridCol w="3504960"/>
                <a:gridCol w="4218120"/>
                <a:gridCol w="814320"/>
              </a:tblGrid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33"/>
                          </a:solidFill>
                          <a:latin typeface="黑体"/>
                          <a:ea typeface="黑体"/>
                        </a:rPr>
                        <a:t>实验探究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33"/>
                          </a:solidFill>
                          <a:latin typeface="黑体"/>
                          <a:ea typeface="黑体"/>
                        </a:rPr>
                        <a:t>现  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黑体"/>
                          <a:ea typeface="黑体"/>
                        </a:rPr>
                        <a:t>结  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⑴</a:t>
                      </a:r>
                      <a:r>
                        <a:rPr b="0" lang="zh-CN" sz="2800" spc="-1" strike="noStrike">
                          <a:solidFill>
                            <a:srgbClr val="0066ff"/>
                          </a:solidFill>
                          <a:latin typeface="黑体"/>
                          <a:ea typeface="黑体"/>
                        </a:rPr>
                        <a:t>用排水法收集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在两个集气瓶中装满水，用玻璃片盖住瓶口，倒放入水中。将塑料管小心插入集气瓶内吹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集气瓶中的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集气瓶内充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②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在水中集满气体后，用玻璃片盖住瓶口，从水中取出正放在桌上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24360" y="469728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12000" y="2997360"/>
            <a:ext cx="1512720" cy="1236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1657440" cy="1185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1501560" cy="1643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67280" y="14842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被排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2395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无色气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28000" y="1052640"/>
            <a:ext cx="79200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4508640"/>
            <a:ext cx="748800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785-5BBC-4890-8C9A-7A12DA9A44D4}" type="slidenum">
              <a:t>22</a:t>
            </a:fld>
          </a:p>
        </p:txBody>
      </p:sp>
    </p:spTree>
  </p:cSld>
  <p:transition spd="med">
    <p:split dir="in" orient="vert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1676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1905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1280" y="692280"/>
          <a:ext cx="8964720" cy="5395680"/>
        </p:xfrm>
        <a:graphic>
          <a:graphicData uri="http://schemas.openxmlformats.org/drawingml/2006/table">
            <a:tbl>
              <a:tblPr/>
              <a:tblGrid>
                <a:gridCol w="2001960"/>
                <a:gridCol w="2138400"/>
                <a:gridCol w="2160720"/>
                <a:gridCol w="2663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实验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探究空气与呼出气体的差异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燃着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木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伸入空气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伸入呼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的气体瓶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适量澄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石灰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加入盛空气的集气瓶中后振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加入呼出的气体瓶中后振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对着干燥的玻璃片呼气并与放在空气中的另一块玻璃片比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4356000" y="141300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燃着的木条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无多大变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2133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黑体"/>
              </a:rPr>
              <a:t>燃着的木条熄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38560" y="465300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被呼气的玻璃片上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有水雾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出现</a:t>
            </a:r>
            <a:r>
              <a:rPr b="1" lang="en-US" sz="2000" spc="-1" strike="noStrike">
                <a:solidFill>
                  <a:srgbClr val="0066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放在空气中的另一块玻璃片上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无明显现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773360"/>
            <a:ext cx="2158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呼出气体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氧气比空气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43640" y="4797360"/>
            <a:ext cx="233856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呼出气体中含水蒸气比空气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306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无明显现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3716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澄清石灰水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变浑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14920" y="0"/>
            <a:ext cx="3529080" cy="647640"/>
          </a:xfrm>
          <a:prstGeom prst="wedgeRoundRectCallout">
            <a:avLst>
              <a:gd name="adj1" fmla="val -51981"/>
              <a:gd name="adj2" fmla="val 474263"/>
              <a:gd name="adj3" fmla="val 16667"/>
            </a:avLst>
          </a:prstGeom>
          <a:solidFill>
            <a:srgbClr val="bbe0e3"/>
          </a:solidFill>
          <a:ln w="19080">
            <a:solidFill>
              <a:srgbClr val="d75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澄清石灰水在空气中放置时间长会出现浑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2924280"/>
            <a:ext cx="2158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呼出气体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氧化碳比空气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602-375A-4001-8C16-64FF82D785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8000" y="295200"/>
            <a:ext cx="8839080" cy="60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326880"/>
            <a:ext cx="1728720" cy="738360"/>
          </a:xfrm>
          <a:custGeom>
            <a:avLst/>
            <a:gdLst>
              <a:gd name="textAreaLeft" fmla="*/ 0 w 1728720"/>
              <a:gd name="textAreaRight" fmla="*/ 1729080 w 1728720"/>
              <a:gd name="textAreaTop" fmla="*/ 95760 h 738360"/>
              <a:gd name="textAreaBottom" fmla="*/ 642960 h 73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提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2560" y="4176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吸入的空气和呼出的气体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1501920"/>
            <a:ext cx="2232000" cy="838080"/>
          </a:xfrm>
          <a:custGeom>
            <a:avLst/>
            <a:gdLst>
              <a:gd name="textAreaLeft" fmla="*/ 0 w 2232000"/>
              <a:gd name="textAreaRight" fmla="*/ 2232360 w 223200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作出猜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1469880"/>
            <a:ext cx="214560" cy="981360"/>
          </a:xfrm>
          <a:custGeom>
            <a:avLst/>
            <a:gdLst>
              <a:gd name="textAreaLeft" fmla="*/ 137160 w 214560"/>
              <a:gd name="textAreaRight" fmla="*/ 214920 w 214560"/>
              <a:gd name="textAreaTop" fmla="*/ 25560 h 981360"/>
              <a:gd name="textAreaBottom" fmla="*/ 955800 h 98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44880" y="1219320"/>
            <a:ext cx="7611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呼出的气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r>
              <a:rPr b="1" lang="zh-CN" sz="2400" spc="-1" strike="noStrike" u="sng">
                <a:solidFill>
                  <a:srgbClr val="a50021"/>
                </a:solidFill>
                <a:uFillTx/>
                <a:latin typeface="Times New Roman"/>
                <a:ea typeface="楷体_GB2312"/>
              </a:rPr>
              <a:t>二氧化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氧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水蒸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2840040"/>
            <a:ext cx="1733400" cy="1301760"/>
          </a:xfrm>
          <a:custGeom>
            <a:avLst/>
            <a:gdLst>
              <a:gd name="textAreaLeft" fmla="*/ 0 w 1733400"/>
              <a:gd name="textAreaRight" fmla="*/ 1733760 w 1733400"/>
              <a:gd name="textAreaTop" fmla="*/ 168480 h 1301760"/>
              <a:gd name="textAreaBottom" fmla="*/ 113328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实验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11320" y="3043080"/>
            <a:ext cx="189000" cy="982800"/>
          </a:xfrm>
          <a:custGeom>
            <a:avLst/>
            <a:gdLst>
              <a:gd name="textAreaLeft" fmla="*/ 120960 w 189000"/>
              <a:gd name="textAreaRight" fmla="*/ 189360 w 1890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2814480"/>
            <a:ext cx="7910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收集一瓶呼出的气体，用澄清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石灰水检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收集一瓶呼出的气体，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燃着的小木条检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着干燥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玻璃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34000"/>
            <a:ext cx="2050920" cy="708120"/>
          </a:xfrm>
          <a:custGeom>
            <a:avLst/>
            <a:gdLst>
              <a:gd name="textAreaLeft" fmla="*/ 0 w 2050920"/>
              <a:gd name="textAreaRight" fmla="*/ 2051280 w 2050920"/>
              <a:gd name="textAreaTop" fmla="*/ 91800 h 708120"/>
              <a:gd name="textAreaBottom" fmla="*/ 616320 h 708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现象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87720" y="4390920"/>
            <a:ext cx="72784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呼出的气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中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二氧化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氧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比空气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呼出的气体中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水蒸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含量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比空气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70000" y="4594320"/>
            <a:ext cx="142920" cy="1066680"/>
          </a:xfrm>
          <a:custGeom>
            <a:avLst/>
            <a:gdLst>
              <a:gd name="textAreaLeft" fmla="*/ 91440 w 142920"/>
              <a:gd name="textAreaRight" fmla="*/ 143280 w 142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17C-66CA-44B1-BD6B-D9DC164FC9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7320" y="133200"/>
            <a:ext cx="8785080" cy="531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_81713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592360" cy="211932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250920" y="219240"/>
            <a:ext cx="9650160" cy="4862160"/>
            <a:chOff x="250920" y="219240"/>
            <a:chExt cx="9650160" cy="4862160"/>
          </a:xfrm>
        </p:grpSpPr>
        <p:sp>
          <p:nvSpPr>
            <p:cNvPr id="257" name=""/>
            <p:cNvSpPr/>
            <p:nvPr/>
          </p:nvSpPr>
          <p:spPr>
            <a:xfrm>
              <a:off x="324000" y="1106640"/>
              <a:ext cx="9577080" cy="39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indent="399960">
                <a:lnSpc>
                  <a:spcPct val="13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探究我们吸入的空气和呼出的气体有什么不同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活动中，其中有一操作如右图，则该操作说明该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体是（   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Ａ．极易溶于水　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Ｂ．不易溶于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Ｃ．易溶于水　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Ｄ．与气体是否溶于水无关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920" y="219240"/>
              <a:ext cx="2305080" cy="76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6600"/>
                  </a:solidFill>
                  <a:latin typeface="Times New Roman"/>
                  <a:ea typeface="楷体_GB2312"/>
                </a:rPr>
                <a:t>练习</a:t>
              </a:r>
              <a:r>
                <a:rPr b="1" lang="en-US" sz="4400" spc="-1" strike="noStrike">
                  <a:solidFill>
                    <a:srgbClr val="ff6600"/>
                  </a:solidFill>
                  <a:latin typeface="Times New Roman"/>
                  <a:ea typeface="楷体_GB2312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919160" y="2287440"/>
            <a:ext cx="12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9E8-5401-4177-8231-C1EF0F1E1F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 实验室配制的一瓶澄清石灰水，敞口放置一段时间后，发现表面有一层白色物质生成，说明空气中含有什么气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989000"/>
            <a:ext cx="851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澄清的石灰水遇二氧化碳会变浑浊，利用这一性质可以鉴别二氧化碳气体。澄清石灰水久置空气中生成白色物质，说明空气中含有二氧化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386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 从冰箱中取出的杯子，放在空气中，外壁有水珠形成，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486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答案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从冰箱中取出杯子，杯体温度较低，空气中含有水蒸气，遇冷变成液态水，凝结在杯子外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B41-A7E6-4DE3-A3D9-213F85BDD6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306864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 现有三瓶气体，分别为空气、二氧化碳和氧气，用简单的方法来鉴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" y="458136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燃着的木条分别放到瓶中，如果燃烧更旺的是氧气，熄灭的是二氧化碳，无明显现象发生的是空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82440" y="47628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方便面拆封后放置一段时间会变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是为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2682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空气中含有水蒸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方便面拆封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吸收空气中的水蒸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此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放置一段时间会变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3C6-B93A-4156-A387-7AB5C6444A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152280"/>
            <a:ext cx="8370720" cy="701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元素名称和元素符号（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个）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P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197000"/>
          <a:ext cx="7740360" cy="5184360"/>
        </p:xfrm>
        <a:graphic>
          <a:graphicData uri="http://schemas.openxmlformats.org/drawingml/2006/table">
            <a:tbl>
              <a:tblPr/>
              <a:tblGrid>
                <a:gridCol w="1886760"/>
                <a:gridCol w="836640"/>
                <a:gridCol w="835920"/>
                <a:gridCol w="836280"/>
                <a:gridCol w="836640"/>
                <a:gridCol w="835920"/>
                <a:gridCol w="836280"/>
                <a:gridCol w="8359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素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2412720" y="1844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7800" y="1844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41800" y="1569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70160" y="1871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33080" y="1844640"/>
            <a:ext cx="63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67280" y="1943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0920" y="20145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74920" y="3240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1440" y="3068640"/>
            <a:ext cx="82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88960" y="314640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3166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58920" y="3068640"/>
            <a:ext cx="61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0040" y="3141720"/>
            <a:ext cx="77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83680" y="3141720"/>
            <a:ext cx="77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0000" y="4535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67000" y="43909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8360" y="44370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22640" y="43909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5440" y="450864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17800" y="443700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53080" y="450864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41080" y="580536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7800" y="580536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41800" y="5734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05440" y="5734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26160" y="5805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5800" y="5805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7440" y="573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12720" y="1844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94B-5420-48D8-B6A0-4874D2413C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25909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一些仪器以及仪器的使用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58920" y="981000"/>
            <a:ext cx="231444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资料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4D9-8D06-48E4-BCEB-F1777D0AB3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140360" y="1989000"/>
            <a:ext cx="4752720" cy="434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4762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西方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世纪中叶的化学实验室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1747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384360" cy="413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476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中国古代的炼丹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436-ED9E-4051-BCD9-342E8AAAAC16}" type="slidenum">
              <a:t>3</a:t>
            </a:fld>
          </a:p>
        </p:txBody>
      </p:sp>
    </p:spTree>
  </p:cSld>
  <p:transition spd="med"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68360" y="333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试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268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试管：用来盛放少量药品、常温或加热情况下进行少量试剂反应的容器，可用于制取或收集少量气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781760" y="2131920"/>
            <a:ext cx="1182960" cy="4392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2349360"/>
            <a:ext cx="7151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事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直接加热，用试管夹夹在距试管口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放在试管内的液体，不加热时不超过试管容积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加热时不超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l/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热后不能骤冷，防止炸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热时试管口不应对着任何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固体加热时，试管要横放，管口略向下倾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D9D-1C45-4D0E-87DA-50A6D7618E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12952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黑体"/>
              </a:rPr>
              <a:t>烧杯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黑体"/>
              </a:rPr>
              <a:t>用作配制溶液和较大量试剂的反应容器，在常温或加热时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使用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加热时应放置在石棉网上，使受热均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溶解物质用玻璃棒搅拌时，不能触及杯壁或杯底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908000" y="4221000"/>
            <a:ext cx="1866960" cy="2376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1905120" cy="2376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68360" y="333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烧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D80-0CBF-4DF4-BE58-FBA1EB235D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106668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酒精灯：化学实验时常用的加热热源，也用作焰色反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注意事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灯的灯芯要平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添加酒精时，不超过酒精灯容积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酒精不少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l/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绝对禁止向燃着的酒精灯里添加酒精，以免失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绝对禁止用酒精灯引燃另一只酒精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完酒精灯，必须用灯帽盖灭，不可用嘴去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要碰倒酒精灯，万一洒出的酒精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桌上燃烧起来，应立即用湿布扑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867280" y="5157720"/>
            <a:ext cx="1419480" cy="1584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275600" y="4692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68360" y="0"/>
            <a:ext cx="3311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酒精灯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7BF-E50F-4CD9-B687-7DF4A2BF4C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酒精灯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85016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6C6-CF18-4325-9E25-71585C87E4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研钵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197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用于研磨固体试剂或使固体混和均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181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6EB-26A7-4CBC-BD2E-794C59766E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1447920"/>
            <a:ext cx="6639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黑体"/>
              </a:rPr>
              <a:t>集气瓶：用于收集和贮存少量气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不能加热，如果燃烧反应有固体生成，瓶底应加少量水或铺少量细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收集气体时按气体密度不同选择瓶口方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黑体"/>
              </a:rPr>
              <a:t>瓶口磨砂，用磨砂玻璃片涂凡士林封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排水法收集时，集气瓶应装满水再倒置收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237440" y="3041640"/>
            <a:ext cx="1655640" cy="319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81640" y="404640"/>
            <a:ext cx="19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集气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86F-86E8-4C0F-8526-3AB81673DE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铁架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3679920" cy="4047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62120" y="1676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夹持固定反应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53A-FC40-4B36-8F3B-518F54BE75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6-1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铁夹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6-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铁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1484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用于固定或放置容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971800" y="2354400"/>
            <a:ext cx="289548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64F-4443-4914-AC1E-76CD3D243A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胶头滴管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543800" y="189000"/>
            <a:ext cx="1219320" cy="6335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50920" y="1413000"/>
            <a:ext cx="6626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吸取和滴加少量液体试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垂直悬滴，不伸入容器内，不接触容器内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不能一管多用，洗净后才能取另一种液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取用试剂时不能倒置或平放，防止液体浸蚀胶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550-0047-422C-A957-33BD3A1CA0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32520" cy="48546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914400" y="838080"/>
            <a:ext cx="45720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胶头滴管的正确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B9E-D241-4E54-A299-CE7C6C5104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57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化学的重要途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验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133720"/>
            <a:ext cx="198108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般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357720"/>
            <a:ext cx="2590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4920" y="350028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行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捷性（常温优于加热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绿色环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廉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3716280"/>
            <a:ext cx="288720" cy="10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0240 h 1008000"/>
              <a:gd name="textAreaBottom" fmla="*/ 97776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5"/>
                </a:cubicBezTo>
                <a:lnTo>
                  <a:pt x="10800" y="8742"/>
                </a:lnTo>
                <a:cubicBezTo>
                  <a:pt x="10800" y="9780"/>
                  <a:pt x="5400" y="10817"/>
                  <a:pt x="0" y="10817"/>
                </a:cubicBezTo>
                <a:cubicBezTo>
                  <a:pt x="5400" y="10817"/>
                  <a:pt x="10800" y="11855"/>
                  <a:pt x="10800" y="12892"/>
                </a:cubicBezTo>
                <a:lnTo>
                  <a:pt x="10800" y="19525"/>
                </a:lnTo>
                <a:cubicBezTo>
                  <a:pt x="10800" y="2056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04640"/>
            <a:ext cx="8353440" cy="52056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学好化学实验，我们该如何去做？从哪些方面入手？该注意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0800" y="2708280"/>
            <a:ext cx="14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4600" y="328464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想与假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7720" y="3860640"/>
            <a:ext cx="14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6440" y="4869000"/>
            <a:ext cx="14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680" y="551664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象与结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1680" y="616572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思与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5516640"/>
            <a:ext cx="31687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下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247-088A-42EF-A947-6DE3CDBC7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 </a:t>
            </a: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华文新魏"/>
              </a:rPr>
              <a:t>药匙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5545080" cy="4095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914400" y="16002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用于取用固体粉末或小颗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F15-399B-4647-B87B-36CBC422323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水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1484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用排水法收集气体时使用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880000" cy="2448000"/>
          </a:xfrm>
          <a:prstGeom prst="rect">
            <a:avLst/>
          </a:prstGeom>
          <a:ln w="0">
            <a:noFill/>
          </a:ln>
        </p:spPr>
      </p:pic>
      <p:pic>
        <p:nvPicPr>
          <p:cNvPr id="338" name="22" descr=""/>
          <p:cNvPicPr/>
          <p:nvPr/>
        </p:nvPicPr>
        <p:blipFill>
          <a:blip r:embed="rId2"/>
          <a:stretch/>
        </p:blipFill>
        <p:spPr>
          <a:xfrm>
            <a:off x="4068720" y="2627280"/>
            <a:ext cx="410364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BBB-C1DE-4DFA-B634-6DDFEF4A87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03280" y="59562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实验室制取并收集氧气的装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E04-4766-41D9-BF4B-DFEC175496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现象与结论</a:t>
            </a:r>
            <a:br>
              <a:rPr sz="3200"/>
            </a:b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观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验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参加反应物质的颜色、状态、气味、硬度、密度等物理性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验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观察到的光、热、火焰、沉淀、气体等现象的产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验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生成物质的颜色、状态、气味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78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）描述现象时要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4292640"/>
            <a:ext cx="842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描述实验现象而不能说出生成物的名称（即不能说出物质名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纯固体燃烧只发光，无火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烟与雾的区别：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固体小颗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液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9C1-CB2E-47E0-BA6B-7F76DEE556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26828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验探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蜡烛及其燃烧的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-3019" t="6379" r="0" b="9334"/>
          <a:stretch/>
        </p:blipFill>
        <p:spPr>
          <a:xfrm>
            <a:off x="2411280" y="2781360"/>
            <a:ext cx="3672000" cy="388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4141440" y="260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一课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63C-9402-41A9-841B-DBBAA3644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3645000"/>
            <a:ext cx="5562720" cy="2466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组成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颜色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状态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气味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硬度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密度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水溶性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959520" y="549360"/>
          <a:ext cx="172728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9520" y="549360"/>
                    <a:ext cx="172728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2120" y="770040"/>
            <a:ext cx="47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．点燃前（实验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蜡烛的颜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状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用小刀切割观察硬度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将蜡烛放入水中，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蜡烛的密度、水溶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蜡烛及其燃烧的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589720"/>
            <a:ext cx="29718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5000" y="4292640"/>
            <a:ext cx="16826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固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5013360"/>
            <a:ext cx="18730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365616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石蜡和棉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1680" y="363996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1336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水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29264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稍有气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70680" y="4581360"/>
            <a:ext cx="19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什么性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4437000"/>
            <a:ext cx="863640" cy="838440"/>
          </a:xfrm>
          <a:prstGeom prst="rightArrow">
            <a:avLst>
              <a:gd name="adj1" fmla="val 50000"/>
              <a:gd name="adj2" fmla="val 257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5121360"/>
            <a:ext cx="18000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物理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4653000"/>
            <a:ext cx="3961080" cy="2205000"/>
          </a:xfrm>
          <a:prstGeom prst="donu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4724280"/>
            <a:ext cx="3889440" cy="24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645000"/>
            <a:ext cx="5400720" cy="2520720"/>
          </a:xfrm>
          <a:prstGeom prst="wedgeRectCallout">
            <a:avLst>
              <a:gd name="adj1" fmla="val 14314"/>
              <a:gd name="adj2" fmla="val 71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7BA-EBD7-452E-9117-7ACF2C94B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04640"/>
            <a:ext cx="8451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．蜡烛燃烧时的现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焰分几层？哪层最亮？哪层最暗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哪层温度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蜡烛燃烧的产物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蜡烛熄灭时，产生的白烟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052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黄色火焰；放出热量；燃烧时产生黑烟；熄灭时产生白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708280"/>
            <a:ext cx="12747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三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276552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焰 、内焰、焰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781360"/>
            <a:ext cx="1081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外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2781360"/>
            <a:ext cx="12240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焰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2781360"/>
            <a:ext cx="1081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外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3680" y="4149720"/>
            <a:ext cx="14612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445000"/>
            <a:ext cx="3527280" cy="5205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石蜡的小颗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77080" y="3500280"/>
            <a:ext cx="1876320" cy="324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61920"/>
            <a:ext cx="244800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53E-E089-4863-A85F-8667648DF6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98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360" y="4292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结论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蜡烛燃烧生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645000"/>
            <a:ext cx="45385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澄清的石灰水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浑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906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烛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氧气      二氧化碳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229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472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068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将烧杯倒转，倒入澄清的石灰水观察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40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将火柴梗横放在火焰上观察现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81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将干冷的烧杯放在火焰上方观察现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58388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部分的火柴梗被烧焦，说明外焰温度最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276640"/>
            <a:ext cx="42480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烧杯内壁有小水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51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黑烟  是什么物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487840"/>
            <a:ext cx="914400" cy="533520"/>
          </a:xfrm>
          <a:prstGeom prst="wedgeRoundRectCallout">
            <a:avLst>
              <a:gd name="adj1" fmla="val -14236"/>
              <a:gd name="adj2" fmla="val 117560"/>
              <a:gd name="adj3" fmla="val 16667"/>
            </a:avLst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6237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蜡烛不完全燃烧产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炭黑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小颗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4941720"/>
            <a:ext cx="2951280" cy="792360"/>
          </a:xfrm>
          <a:prstGeom prst="wedgeRoundRectCallout">
            <a:avLst>
              <a:gd name="adj1" fmla="val -68560"/>
              <a:gd name="adj2" fmla="val -14328"/>
              <a:gd name="adj3" fmla="val 16667"/>
            </a:avLst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084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蜡烛燃烧的文字表达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5CB-69A2-429A-8B44-C79CA94123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10-23T03:26:43Z</dcterms:modified>
  <cp:revision>139</cp:revision>
  <dc:subject/>
  <dc:title/>
</cp:coreProperties>
</file>